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473-DEC8-4141-93D0-F85768C3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D96-140A-4787-BDD4-B6783B7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809-76F6-4C10-BD0A-30FAB617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7D9-9960-4B4B-B41D-15AD109E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907F-B125-4787-A002-105419CF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03BA-7048-4F0F-8DE8-F6F455D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A375-D530-4050-AA88-89A9ACBC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E715-B4AF-48D7-9280-FF1BA32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139-CC97-410B-89BC-69B3B2F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4643-FC36-4A95-9508-1BB6ED3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81D6-65EF-4F16-A9BE-F995D3C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B4A-9FD7-459D-99C8-A5F8EE0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8D6-8397-47F7-8C49-648CE0D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D255-4DD8-4E63-BD19-BF9F650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1E96-A67D-4018-859B-763B7DD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6646-5A3B-4D92-A5C4-2898707E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1BC-81DA-49E4-9376-746E758C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7F8-F9D2-4B61-913C-48A8BAC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1B6-28DC-474B-BF25-C63F139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16E-03D8-4606-8254-94D7CD5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90F-B4C1-4B26-BE11-A1E3869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4BD-C5C7-487E-B249-8B88E1B2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E0A-6D45-4E1F-98F6-7FECB4B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2BC-BF5F-4C1E-95FD-EA4409D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8089-9354-4646-8438-D0D8330162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E3FD-366D-4BFF-952D-8EA362B9C8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nofthesouth.net/leefoundation/civil-war/1863/may/battle-chancellorsville.ht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onofthesouth.net/leefoundation/gettysburg/dead-civil-war-soldiers.jpg" TargetMode="External"/><Relationship Id="rId4" Type="http://schemas.openxmlformats.org/officeDocument/2006/relationships/hyperlink" Target="http://www.sonofthesouth.net/leefoundation/gettysburg/dead-civil-war-soldiers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Battle of</a:t>
            </a:r>
            <a:br>
              <a:rPr sz="36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ncellorsvil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: Alec Breitkreut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od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U.S.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/11/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6172200"/>
            <a:ext cx="335304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MAGE SOURCE PAGE: </a:t>
            </a:r>
            <a:r>
              <a:rPr b="0" lang="en-US" sz="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sonofthesouth.net/leefoundation/civil-war/1863/may/battle-chancellorsville.htm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mage Source Page: http://www.sonofthesouth.net/leefoundation/civil-war/1863/may/battle-chancellorsville.ht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Battle of</a:t>
            </a:r>
            <a:br>
              <a:rPr sz="28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hancellorsvil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 General-General Joseph Hoo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ederate Generals-General Robert E. Lee, General Thomas “Stonewall”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 victory for General L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 Casualties-17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ederate Casualties-13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2800440" cy="24447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334120" y="5715000"/>
            <a:ext cx="31240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IMAGE SOURCE PAGE: </a:t>
            </a:r>
            <a:r>
              <a:rPr b="0" lang="en" sz="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sonofthesouth.net/leefoundation/gettysburg/dead-civil-war-soldiers.ht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Battle of</a:t>
            </a:r>
            <a:br>
              <a:rPr sz="28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hancellorsvil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like most battles in the Civil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on landscape hard to maneuver 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e split his army in two, to attack from two different dir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battle lasted from May 1-5 186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Battle of</a:t>
            </a:r>
            <a:br>
              <a:rPr sz="2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ancellorsvil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Lee’s greatest victories, but he lost something much more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“Stonewall” Jackson was killed in The Battle of Chancellorsvi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ckson was one of the best Generals the Confederacy h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2438280" y="4572000"/>
            <a:ext cx="1370160" cy="16351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1314720" cy="1752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61722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MAGE SOURCE PAGE: http://en.wikipedia.org/wiki/File:Stonewall_Jackson_-_National_Portrait_Gallery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61722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MAGE SOURCE PAGE: http://en.wikipedia.org/wiki/File:Stonewall_Jackson_-_National_Portrait_Gallery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MAGE SOURCE PAGE: http://www.arlingtoncemetery.net/sjackson.ht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americanhistory.about.com/od/civilwarbattles/p/cwbattle_chance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http://members.tripod.com/andrew_dehart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20:18:30Z</dcterms:created>
  <dc:creator>Brandy</dc:creator>
  <dc:description/>
  <dc:language>en-US</dc:language>
  <cp:lastModifiedBy>Aaron</cp:lastModifiedBy>
  <dcterms:modified xsi:type="dcterms:W3CDTF">2011-09-12T00:14:19Z</dcterms:modified>
  <cp:revision>10</cp:revision>
  <dc:subject/>
  <dc:title>The Battle of Chancellorsville</dc:title>
</cp:coreProperties>
</file>